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D27-13EF-4BD4-A719-824428C3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CCD3-A7D2-4060-995E-68DA3DB0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A70-A1CE-4033-8083-E76EB9FA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CE2-A515-4F0C-940C-78F5C3F6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B09C-1383-47DB-9364-62AAD0AB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5C01-AB93-4C1E-A0CF-71CE078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7FCE-C550-452A-9CBE-192C4B3E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056-9573-4104-8B59-55A88EE9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A6EA-7A73-4117-8F2F-8AC4F48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90B5-8D9C-4696-BE5A-48C52EA7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0CA-7911-44FD-A0DC-BF02424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743-F36C-4A16-8183-C9292929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6739-CBB5-46DC-B027-4F4C291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8B7-5143-4B92-9ED8-E94B6901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246-59D9-4354-A16C-3DE3604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F6CE-779B-40F7-9B7D-B9A07A38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D456-A733-4BE4-BB2A-D60B3C63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D2E-9AE1-4DEB-A04F-DEC00B6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729-DF54-49A3-9FBB-16015CC9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42A-20B7-4D06-BAAB-FBEC08F0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B19-E033-45B8-A7EB-A7BA294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C5C-C0CD-45F8-AFA3-96C3263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034-CDF7-41F7-886F-E2A3A72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2E7-C73B-4DEE-A126-B7AC20EF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7C4B-CDA3-4C7D-B9BA-B8952A39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F4B9-E3FF-4D3A-A27C-7F5DF162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ve Pract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atoetoe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nly Day 27 January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ing The Reflective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flection?  Discuss in pai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lection is the ability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a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urren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ractices, behaviours or though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o mak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onscio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hoices about our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u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nett, O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hony and Matthews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advantag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groups improve their working relationships and decision-mak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aises self-awareness and promotes personal and profession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: Reflective 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, Pair, Share:  Team Leader to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, then discuss together one thing that you did last year, to raise a student’s achievement level. What else might you have done to continue this improvement?  Share your thoughts with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on in and on 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ction (reflecting on our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our experiences to inform the situation that is un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action (thinking after th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why we acted as we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hrough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, D. (1983)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flective Practitioner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as Inquiry: Involving Stud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teams, read the section about involving students (p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ogether how you have done this in the past to involve your students in their learning and what you would like to do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e person to summarise for the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hool wide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discussed, in depth, team-wide assessment data.  From these discussions, they identified students at risk, areas of concern and strategies to address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what each teacher needs to do to fully contribute to this inqui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3:16:52Z</dcterms:created>
  <dc:creator>Marilyn Gwilliam</dc:creator>
  <dc:description/>
  <dc:language>en-US</dc:language>
  <cp:lastModifiedBy>Ministry of Education</cp:lastModifiedBy>
  <cp:lastPrinted>2006-03-02T20:30:37Z</cp:lastPrinted>
  <dcterms:modified xsi:type="dcterms:W3CDTF">2012-01-26T03:32:11Z</dcterms:modified>
  <cp:revision>11</cp:revision>
  <dc:subject/>
  <dc:title>Reflective Practice</dc:title>
</cp:coreProperties>
</file>