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532-90C7-412E-9930-51CF5E8C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6337-1A0E-4B97-8C13-6A605197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109B-05B5-40BB-B22B-B8A9063B7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8C80-5101-47E6-83B8-FEC5F494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8255A-B907-48DF-8F88-61160EF01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11E1-AFD7-445D-8E5F-0F5D158FF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0A243-6AF3-4B34-9FD3-8CA9695CD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BD0A-8BF2-4996-9C71-E09DED078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A77FB-EF35-4647-A5D7-BBD707E5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2C6B5-5146-4884-9DEF-9F70811EA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DEC1F-1C9E-447A-A495-3BCBB5AF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5734-05A7-48A5-8F76-DB7BCB39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8A5B7-8838-47C9-A2CD-B4BE79A2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19E90-387C-4287-8AA1-327337CD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12B2-1261-48D1-887E-1951DDBB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AA9F-6265-4AAD-A1AC-1ADFAE54E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1166-312E-476B-9920-296CE3FD5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300A-2E77-4CAA-8613-AD36C3C0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9C71-FEAA-4611-B7FE-2B24E02B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90B2-36DA-4E8A-83F1-26C9CA8FE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0BE4-E1E6-4C96-B0C5-12E1057EF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0333-D497-4887-9B9F-54BB72D6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853-39C5-47E6-AB3A-513A40F0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2938-122E-46AE-ADE9-895F3A22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22F5-B877-4CCA-88B7-43F8BE85D3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565B-8996-4AC1-9833-2A4DD361D2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ve Pract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atoetoe Centr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Only Day 27 January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ing The Reflective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flection?  Discuss in pair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lection is the ability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ami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urren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ractices, behaviours or though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o mak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conscio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hoices about our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futu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ctions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nett, O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hony and Matthews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the advantag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and groups improve their working relationships and decision-mak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aises self-awareness and promotes personal and profession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: Reflective Act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, Pair, Share:  Team Leader to facil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, then discuss together one thing that you did last year, to raise a student’s achievement level. What else might you have done to continue this improvement?  Share your thoughts with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on in and on a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action (reflecting on our f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to our experiences to inform the situation that is unf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 action (thinking after the 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ing why we acted as we 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through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, D. (1983)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Reflective Practitioner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ching as Inquiry: Involving Stud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teams, read the section about involving students (p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ogether how you have done this in the past to involve your students in their learning and what you would like to do in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e person to summarise for the t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hool wide inqui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discussed, in depth, team-wide assessment data.  From these discussions, they identified students at risk, areas of concern and strategies to address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discuss what each teacher needs to do to fully contribute to this inqui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23:16:52Z</dcterms:created>
  <dc:creator>Marilyn Gwilliam</dc:creator>
  <dc:description/>
  <dc:language>en-US</dc:language>
  <cp:lastModifiedBy>Ministry of Education</cp:lastModifiedBy>
  <cp:lastPrinted>2006-03-02T20:30:37Z</cp:lastPrinted>
  <dcterms:modified xsi:type="dcterms:W3CDTF">2012-01-26T03:32:11Z</dcterms:modified>
  <cp:revision>11</cp:revision>
  <dc:subject/>
  <dc:title>Reflective Practice</dc:title>
</cp:coreProperties>
</file>