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A36-06A5-4D34-BC1A-998317E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659-FD89-43A8-B936-34D27957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B4A-6D29-4A4F-9A13-02168A13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3B6-A71F-433E-8D38-1B7D7965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8BC5-35F2-4296-AF71-6B2F687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8C49-D0EA-4E20-9E4B-87FAEB07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0B5F-A0A2-4D6C-813E-7F89A26D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AA3A-3E26-4464-8F76-F785F1B2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C00C-069C-4F8D-87C7-77547FB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A325-8F34-4501-A8CB-32BEEB18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6DBF-1609-487E-A8C9-C5F07FD7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A08-E3FB-4A21-834E-CD66BF3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CAB1-90DE-45B0-AFC3-A83D6EA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FFBC-C188-4A9C-99C7-8CE0165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43EF-FC91-4487-B6D7-CFF69BC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6E26-2BA0-4A54-942B-A3DB6C10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4D1A-F3AF-4B71-A817-A6FC9BA4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817-C5E8-4C73-A944-37AC8C9F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AAE-E606-446A-9E6A-F358E2EC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B03-8F43-49A9-82BB-8759184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990-4E64-4E32-B49F-46336EBB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F76-7E02-4C92-B1AB-42856D4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183-E8A5-4CE5-8C8B-09B4B93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BB0-33D5-4D39-813F-1FEBE73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010-1096-4EBF-8651-C6193530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844-BAB2-42B0-97AE-FAE653EB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ve Pract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atoetoe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nly Day 27 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ing The Reflective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flection?  Discuss in pai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lection is the ability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a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urren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ractices, behaviours or though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o mak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scio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hoices about ou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u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nett, O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hony and Matthew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advantag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groups improve their working relationships and decision-mak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aises self-awareness and promotes personal and profession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: Reflective 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, Pair, Share:  Team Leader 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, then discuss together one thing that you did last year, to raise a student’s achievement level. What else might you have done to continue this improvement?  Share your thoughts with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on in and on 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ction (reflecting on our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our experiences to inform the situation that is un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action (thinking after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why we acted as we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hrough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, D. (1983)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flective Practitioner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as Inquiry: Involving 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s, read the section about involving students (p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ogether how you have done this in the past to involve your students in their learning and what you would like to do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person to summarise for the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ool wide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discussed, in depth, team-wide assessment data.  From these discussions, they identified students at risk, areas of concern and strategies to address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what each teacher needs to do to fully contribute to this inqui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3:16:52Z</dcterms:created>
  <dc:creator>Marilyn Gwilliam</dc:creator>
  <dc:description/>
  <dc:language>en-US</dc:language>
  <cp:lastModifiedBy>Ministry of Education</cp:lastModifiedBy>
  <cp:lastPrinted>2006-03-02T20:30:37Z</cp:lastPrinted>
  <dcterms:modified xsi:type="dcterms:W3CDTF">2012-01-26T03:32:11Z</dcterms:modified>
  <cp:revision>11</cp:revision>
  <dc:subject/>
  <dc:title>Reflective Practice</dc:title>
</cp:coreProperties>
</file>