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0C7E-E5A3-44CB-B6CB-87BE6892B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241D-53F7-4045-AB3D-104B68D3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293C-85FD-47C4-80B4-2AA128D0C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4D93-A7FC-4BA2-BD05-B85D4F089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72F9-D921-4FDB-ACF5-52C21BC2F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47626-3900-4354-8C2D-9F637DAD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F12A-C99C-430A-A84C-4A2E506FB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EDACA-11B1-40C3-BAFA-EE8D44DE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D099E-6D32-4F71-80E7-FB4F4AD1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66758-4BC8-46EE-A258-06AE370C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102B7-6DFC-4F62-91BA-C3B2A6E3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786D-6CCC-4CE5-B180-163DF798E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644FE-A7F6-4C5C-A6ED-09DDBFEE0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47BD-1930-4C92-B4D5-6380CAE51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82FD7-38B8-450E-86A1-CB99C578B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F9C4-D577-4D6B-9FC7-5F2A8E465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48273-28CA-415B-879A-2DF1D2F60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B0CA-FCA4-4ADD-81D1-E738D72A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2503-54B9-466A-A1D6-3EE4FC35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AF75-7BF7-4C69-8457-48F55BDF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447B-C726-4540-BDC3-5CF6D46E8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AF31-9D1D-4110-A662-8A29865B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00D3-8FCF-4D97-B858-6C3FC3C1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1AAD-AB34-47A6-8562-957A56DBA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C7094-F46B-4F44-87A8-9943081E9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473F-AA90-45D9-91FB-0C5BA6269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ve Pract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atoetoe Centr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Only Day 27 January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ing The Reflective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flection?  Discuss in pair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lection is the ability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ami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urren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ractices, behaviours or though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o mak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conscio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hoices about our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futu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ctions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nett, O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hony and Matthews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the advantag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and groups improve their working relationships and decision-mak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aises self-awareness and promotes personal and profession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: Reflective Act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, Pair, Share:  Team Leader to facil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, then discuss together one thing that you did last year, to raise a student’s achievement level. What else might you have done to continue this improvement?  Share your thoughts with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on in and on a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action (reflecting on our f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to our experiences to inform the situation that is unf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 action (thinking after the 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ing why we acted as we 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through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, D. (1983)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Reflective Practitioner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ching as Inquiry: Involving Stud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teams, read the section about involving students (p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ogether how you have done this in the past to involve your students in their learning and what you would like to do in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e person to summarise for the t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hool wide inqui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discussed, in depth, team-wide assessment data.  From these discussions, they identified students at risk, areas of concern and strategies to address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discuss what each teacher needs to do to fully contribute to this inqui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23:16:52Z</dcterms:created>
  <dc:creator>Marilyn Gwilliam</dc:creator>
  <dc:description/>
  <dc:language>en-US</dc:language>
  <cp:lastModifiedBy>Ministry of Education</cp:lastModifiedBy>
  <cp:lastPrinted>2006-03-02T20:30:37Z</cp:lastPrinted>
  <dcterms:modified xsi:type="dcterms:W3CDTF">2012-01-26T03:32:11Z</dcterms:modified>
  <cp:revision>11</cp:revision>
  <dc:subject/>
  <dc:title>Reflective Practice</dc:title>
</cp:coreProperties>
</file>