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9E58-2EBD-456F-90C3-CDD7C6E6C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97C-E8AE-43C7-AB42-CF6E89DD6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384-3E02-40B4-83D7-5DA8AE8E3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28991-7A88-4D96-BCDE-2189E2E8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88B40-4B35-4EFE-AC65-CD4AFFE04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481FA-C8B5-400C-99DE-3D0D405B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590DD-2D31-4960-911D-1DA2F643D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87F0-F40C-4E3E-AFDF-68BAE2FE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64FA4-F00B-498A-9A96-3CCF55CE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1759-5F6B-41CD-8E2B-8A7457D9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B34D-1475-4F0E-A3E5-0001CEEC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2E5-664E-4EB8-9886-6F48BB6C1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A9790-3ED7-4039-906D-F383B1C77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D75B6-C077-4680-B234-F4283B1E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FCA90-9933-438A-9B78-D3569B03D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3A84-F482-4A00-84FC-E3474BF7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52ACB-2802-49A6-B1F9-4494DD63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262-025A-4605-BF15-4D77DBC31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6A74-CA5A-4077-8ABF-535033B9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B90-51D4-4FF9-857F-FEECAF3C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3F2-AB2A-42F9-B82E-93B3A904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8D3-9ADD-4E7E-B632-8CA34BBE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1418-6C18-4048-A77B-648C7905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4432-4314-4131-B232-BE0FB3530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6680" cy="6858000"/>
            <a:chOff x="-720" y="-4680"/>
            <a:chExt cx="10666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2080" y="3273480"/>
              <a:ext cx="6856200" cy="29988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5C7C-D2AA-43F1-8247-2771D56B2F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DCD4-7895-4AD5-AC4B-24F874784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73240" y="1371240"/>
            <a:ext cx="7772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ve Practic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atoetoe Central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 Only Day 27 January,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Introducing The Reflective Proces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flection?  Discuss in pairs 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flection is the ability to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examin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urrent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practices, behaviours or thought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 to make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consciou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choices about our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futu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actions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arnett, O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ahony and Matthews,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What are the advantages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and groups improve their working relationships and decision-making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raises self-awareness and promotes personal and professional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Activity: Reflective Activit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, Pair, Share:  Team Leader to facili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nk about, then discuss together one thing that you did last year, to raise a student’s achievement level. What else might you have done to continue this improvement?  Share your thoughts with your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flection in and on action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 action (reflecting on our fee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ing to our experiences to inform the situation that is unfo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 action (thinking after the ev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ing why we acted as we d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king through what happe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hon, D. (1983) 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Reflective Practitioner</a:t>
            </a:r>
            <a:r>
              <a:rPr b="0" i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Teaching as Inquiry: Involving Stud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your teams, read the section about involving students (p.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ogether how you have done this in the past to involve your students in their learning and what you would like to do in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One person to summarise for the tea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School wide inquiry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discussed, in depth, team-wide assessment data.  From these discussions, they identified students at risk, areas of concern and strategies to address the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airs, discuss what each teacher needs to do to fully contribute to this inquir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23:16:52Z</dcterms:created>
  <dc:creator>Marilyn Gwilliam</dc:creator>
  <dc:description/>
  <dc:language>en-US</dc:language>
  <cp:lastModifiedBy>Ministry of Education</cp:lastModifiedBy>
  <cp:lastPrinted>2006-03-02T20:30:37Z</cp:lastPrinted>
  <dcterms:modified xsi:type="dcterms:W3CDTF">2012-01-26T03:32:11Z</dcterms:modified>
  <cp:revision>11</cp:revision>
  <dc:subject/>
  <dc:title>Reflective Practice</dc:title>
</cp:coreProperties>
</file>