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B53-33FD-4CBF-ABD6-6217D8C1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B75-CA23-4847-A278-272D72B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7F3-8CA0-4AEC-88A8-3E2B297D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6D7-431C-41A5-9EF6-AB6A3E3F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842C-F48D-4B33-B7C9-CEE30B66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6E5A-6A63-4DA6-A945-152FE13C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E61A-3AE6-4E6A-8CC8-03776034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5659-896F-49FC-A2D6-275EEB6E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44A2-1243-4136-8B44-3F96C8AF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B9A5-3978-446A-99F1-423902BA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A04C-B918-41F9-92CE-154E2209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B76-D662-4C8C-972B-7793C71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8AF6-DAD6-4AA3-8C4A-3FA2AF58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FB89-1813-4B6E-9A0F-7EC66BD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7524-6D2A-4176-8191-25C7D775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74A0-8993-4842-A46B-8D1B4192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BAA2-8BC5-4775-BA3E-DA3A3898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A74-7E83-4A61-8002-7FD42078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179-FE43-45BC-9354-E7C586FB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5AC-CC31-46C8-9285-F927AAC9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EED-9548-42DC-BA5B-D5D79D59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1CF-97E4-4F30-9D51-72D15A21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7EA-2618-4457-9DDF-2EA41C8D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70F-98E0-4064-B81E-2DD2226C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55AF-F37F-41CC-B945-143026A1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2488-D8D0-4E0A-8E5E-C5941F15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ve Pract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atoetoe Centr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Only Day 27 January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ing The Reflective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flection?  Discuss in pair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lection is the ability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ami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urren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ractices, behaviours or though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o mak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onscio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hoices about our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utu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ctions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nett, O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hony and Matthews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the advantag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and groups improve their working relationships and decision-mak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aises self-awareness and promotes personal and profession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: Reflective Act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, Pair, Share:  Team Leader to facil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, then discuss together one thing that you did last year, to raise a student’s achievement level. What else might you have done to continue this improvement?  Share your thoughts with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on in and on 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action (reflecting on our f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to our experiences to inform the situation that is unf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 action (thinking after the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why we acted as we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through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, D. (1983)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flective Practitioner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ing as Inquiry: Involving Stud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teams, read the section about involving students (p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ogether how you have done this in the past to involve your students in their learning and what you would like to do 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e person to summarise for the t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hool wide inqui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discussed, in depth, team-wide assessment data.  From these discussions, they identified students at risk, areas of concern and strategies to address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discuss what each teacher needs to do to fully contribute to this inqui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23:16:52Z</dcterms:created>
  <dc:creator>Marilyn Gwilliam</dc:creator>
  <dc:description/>
  <dc:language>en-US</dc:language>
  <cp:lastModifiedBy>Ministry of Education</cp:lastModifiedBy>
  <cp:lastPrinted>2006-03-02T20:30:37Z</cp:lastPrinted>
  <dcterms:modified xsi:type="dcterms:W3CDTF">2012-01-26T03:32:11Z</dcterms:modified>
  <cp:revision>11</cp:revision>
  <dc:subject/>
  <dc:title>Reflective Practice</dc:title>
</cp:coreProperties>
</file>